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FA2-8F65-439D-871C-C6822448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FA8-1A97-4650-AB4D-0E6B87F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AA2A4-5DA6-4151-BE25-0815A53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8B7E-3FC2-4C96-AB8D-DD8EDB93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86575-4203-49F7-A849-99F01CF8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9A28-835A-4727-9E1B-59FAD1E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358C8-F25C-4169-867C-BD9FD373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28DEC-636C-4317-9EA6-81AE844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F64A3-2DEA-4FDC-B088-B9725F5D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00D4E-3664-44AC-B040-8ADC860D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CBD7D-3FF3-4122-B28C-149681E6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C2B02-67DF-45DA-AE15-D119145A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E82-1CF2-4C79-BC50-7E0D07D0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F2F46-E177-45C6-9B5A-AF8905B4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465C5-CC6D-488B-8266-F1F4B7EE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CD851-4519-4775-A781-822A9634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A19B3-F0CE-471C-8DE1-C94C4809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FCAF5-1099-4816-88A0-5A4C040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03499-D24B-4DC1-90D7-92E6241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72362-CBAF-4D92-BE8D-7F5B9D0D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DA92B-E5A6-4B20-AC53-4832E6F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C8DE-2EC1-4E2A-9A9A-704AEF43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2F965-A583-46D6-8643-E8E771A8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274-A4F6-4B66-8EEC-1484E911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E47A6-1642-4E3A-A0DD-EA655D4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0935C-AE2C-4B08-9875-EA627B9D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50F79-B490-4A4E-9575-5C4702B9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E626-EA39-40AD-ABA4-5875D43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C052D-CB3D-4FAF-9768-D6576C7A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AB75D-B29F-49B6-9FC9-4A91F01B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2F62E-3D4D-4494-BF34-4401D7C6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808D-B6D0-4CB1-A26C-14B70EB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69933-E74D-4C77-ACDF-EE8F77C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9BE9C-796F-4F4F-B849-3CEE401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9FC-3A7D-42C4-A1FF-689122E4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5BFE5-22D8-44BA-A0F9-241D7B12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F22F4-CB18-49EC-B736-50866A29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C354C-D879-4A7B-9DD1-9ABA90EF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3C10B-DF83-4A66-B5BD-1383C5C3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9946B-CD54-407A-83F8-53C8FB66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B6A0A-DCDF-476B-967F-3FF00991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D3333-0872-4C91-A13E-3335863D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C7792-2B0B-47C3-AF77-690DD4AF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B3779-B840-4B28-A31A-08A51D5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F844-42A0-4077-BFD0-C085970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282-776D-489A-8EA5-CCD9F12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945FD-4958-48FE-9459-477837C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CCE3-170B-4366-867A-94A44FE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0A789-4B0C-4138-BB8D-9265E8F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A81D5-6798-4560-B07A-CCBDF2C1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4E7B6-63F6-476D-A5F9-C5CD99B6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C4B62-6581-430B-8A5C-180AC69F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1F5C7-EBF2-4608-82A7-68B0BF9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76256-6DA3-4F14-B3BD-303E204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DCF2C-4F06-40D5-96F9-E20A6017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8B695-D8D3-4D79-B7C0-938C9AED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9CB-956C-4EED-ACE0-F1D1DF9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17CB8-11C6-493E-A3EF-3CD46DE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1FFCA-6B54-42DF-97F6-86390BD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18DF8-4C6F-4026-B0AB-9C478EC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74136-83F5-4FB8-B898-2033BB2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1AD10-4695-4FAE-A4C9-34B4C8F2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126FD-6CEA-4208-A014-2EF421FF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D86F4-A2EC-42D2-869C-D81A248D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AD14B-3CCF-4736-818E-85659EB9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93DC4-70BF-44E1-8B52-4C6C8BA2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B6C88-C496-42F2-ACB1-7DA9AAE5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D01-2733-482F-B279-ACD0E91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7D3ED-5BBA-43D3-A7D8-8DBA831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8E158-1AB8-43A8-99B8-844D4626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1B518-0635-4D20-8643-1787BABE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977FE-538E-4DFD-AB2B-16BDAF1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DCF59-09D8-43FB-BD53-135EB72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16F08-5CAF-4141-85F2-1132F5E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6244F-F8BC-4898-ACAE-79D93EDA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8B1A9-6282-45A0-BC94-900A1EE8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5DD64-3920-4805-85D5-9BAA8EAE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29BE5-74E8-41B1-8078-B24824AA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A9C-98AF-4205-B0A8-4410DDD2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0A17B-0913-4E65-9FAC-F2707942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F4E5E-35AC-4F49-BB23-3D67B79E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6D04E-A74A-4674-AF59-6E22AB0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636C1-B8C0-4D5B-88AD-9241880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3600C-A479-49FF-8881-A26CCC4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200A1-135B-405A-B525-6F45D6A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29E05-A7D3-4C65-884E-C707120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986A6-1299-4774-82B9-2D57D7E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4F0CE-9508-489A-A182-CBB1AFF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C68AF-2E11-443E-99D6-E1CF397B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D8CA-F2E6-45DB-A8D7-7526301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071CE-B7BD-43A2-8C71-0E682E5C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A7221-9666-4AA0-8FEC-329619C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F91C0-DAE2-45F8-AD65-4577E9DE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FC7CF-418B-43DF-80D1-E4AF1ABC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F25BA-4C32-4A61-9169-737C63A9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07C38-29CD-41BD-BD48-BEA2C50A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879C0-26D7-4704-BF9F-ACE3D1BB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2F4FA-2116-47AE-91FD-80EA62D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C5072-E13D-4A9F-B48C-9590A1F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A4BD2-4CBB-45DE-8CA9-4FF4B94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8C8B-F2F2-4808-8F71-8ED9987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A67C5-7503-430A-9545-C61186F1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5F29D-6AF6-46E0-AC4C-F4CBCD86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248AE-85EC-4F84-BEDB-D351B0F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C163A-93E3-4529-98E9-91CFC844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3D94F-4086-44B5-9E7A-BD165D6F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3EF13-0E22-443D-AC89-48CFF95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01FAB-4C34-4A29-A641-C96429E8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F648A-B149-4328-A77E-831BA27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37739-1B5F-4592-9C48-06ABBAF7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3D663-472B-4799-A885-1E7476BC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91F-F8C3-4431-A644-E2F61343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E4A0-D8BB-4381-8E03-25EAE0F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9D9C3-3FCD-48AB-81EC-2E3F3AB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85A82-F7A1-46A4-A701-399FD70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6C1E8-8094-40AB-BE11-C1A500F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3E849-F404-46FC-8506-123763DD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8BDD2-9941-42D3-9486-1F2CFC66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C239F-4630-4542-B22C-ACFDFFF8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EE81D-CBC9-4890-A6FC-05F37F4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2E42D-A736-4EBA-959C-0B18CE5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2683C-263D-4DD9-96C2-E65E2E0A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16608-565F-4B1C-9FB4-0922BF19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A143-839E-400A-B073-ED4CCB0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44501-3AC2-4838-BF3C-2EA9C2D3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43D3C-450E-445F-AA17-E8325D9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F2CF9-F609-4338-BA1E-88443289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EB36D-D9FB-4A1C-91DE-9F45B1B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50CD4-D3C4-4C20-9729-9B19258A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7F3F9-1605-4B5A-96FE-C8052AAC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4726F-8A38-41A0-AA2E-E57BE91B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DEE90-79A6-4CEF-9EF3-987C2D91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BFA83-4150-4376-85F8-452D81C4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91F2E-3A36-40FA-84EF-2860609E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CCF3-876F-492A-910E-790E2743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8A129-CCD2-4FA8-ADA6-58C5445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45B13-F9DB-4378-8476-612FC5A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35DF1-6443-49D2-B470-90DAED4F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7F5B2-C097-44C6-BA62-40D5A6F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21C02-E4D5-4F7F-BE07-080A70F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58C2D-9569-43BC-A1DD-A21617B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6AC50-6549-4688-AEEB-CAFC7839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2666B-A5E8-4768-8614-53A2D9C2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0D57AA-F176-47B5-96EB-DA31EBA9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61E28-C1B0-457B-AA4A-5F48774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7846-FD3E-4606-8A12-B8C45020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80F28-8969-41FC-8DEF-192D9F9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7C464-F1F3-4BF6-8DB2-2891B3A2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805C9-314A-4487-A394-53814BF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DE4FB-6F12-49EF-8E70-847B79DE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CCA10-E5FD-41F0-A098-35764785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F0BDB-40FC-4DF5-97C0-79F0AA1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A6B5D-5DBA-4194-B807-5642569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80EFD-EB13-4684-BC41-9CBFA78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776E3-14B3-4022-BE1B-7D2CA92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4D272-753D-4150-99A7-1B5A6BBA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2E75-50E0-48FD-B53F-0CD19D3B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6F4CB-769B-4F1B-AFB4-B082C6FE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EA4CB-8142-4399-9A78-47096AAB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6D303-CBB5-4F8C-9776-08071A40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A24A4-E88B-4593-AF87-AE2A7B2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7F230-47C7-4E90-B12E-42339DED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5C47B-84C3-4D48-A804-88C8F232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8B768-A41F-427F-9A5C-7A6A6EAC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D6740-BE36-452D-9F81-3DD6EF90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4917C-1ECA-4EF1-BEBC-A3D6333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A2E02-E5F4-4D3F-91D8-2D81B91B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96FD-88B7-44C8-98C1-675ECDD6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DEEB5-2233-4E4E-A153-40B9149A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0270B-9FF0-4669-B567-656613C1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97161-88CB-4EBE-B279-CD69DB8A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04AB-F7E2-4388-9B56-75DF8FD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3E11-3026-4C9B-8AC8-528E0AB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CECD-C590-4CB6-BA97-F6D3421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A615-7F48-4A6A-BE57-890D7F9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B71-9669-4A43-9112-826382CC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F9FE-5D1F-4499-91E4-0224D47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5AA3-C0E8-4C40-8832-8713FF8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9876-3973-442A-AC84-A590320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D088-7B26-42B3-9942-88D3026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FDCE-C20D-41E1-8CA3-D0412B9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1BD3-6079-4226-899F-9185975E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4711-3FE5-4F76-AC28-A333075C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9FDF-C09F-442B-976C-3979E79A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247A-9671-47E1-9D2F-2C4F33D5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AA2F-DE7A-4536-8F0A-9B64721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651-85FC-49AD-A027-94F4F589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DA4E-F15B-434E-AC69-C449984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BF21-18A2-48C4-81D3-84CB127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6CDF-077B-41CB-9567-9B7A906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E119-979A-4C25-95F5-A21517E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88BE-4412-4547-ABA4-AA805A0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EE9B-9988-4376-936F-7D41883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DC29-7A9A-42FF-BFCC-45470F6B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8D06-CC41-474C-B67B-8AB09C74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A46D7-BAAB-4932-8355-A2BFB8A7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17469-0F0B-46EA-A25D-4B8D93D3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DE5-C271-468E-9D72-620D7CC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7E3E-0995-46DC-BE31-CB23FAA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27307-AB71-4414-9535-D78457AE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B285-803F-4CF9-A12F-3CF64705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CFA5-5AAA-4606-A477-7CC3E81A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78C8-DDA6-49EC-8968-71A191A5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7A35-21CA-4DDE-9B7B-AB436416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AC44-50EB-46F4-BCD8-2AEF488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6104-E6F7-4FF8-B749-C434896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3256-A4D5-4978-AA94-9681F56E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BC1F9-60EC-4C5A-9F87-1B3AE37A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6FA-9D21-46D0-9198-0D6BC088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CC56-2570-49DC-AA6F-263411F9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7E01F-AE65-41D6-830B-BDA0A279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3B018-8119-4BAD-A1D7-0181C28C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E17D-BA53-4A4E-A74D-D17FFDF5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86B7-54D2-4FBE-A65A-1E9FCDF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B62D-6CCF-4AD1-9486-2700E4A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D150-CDE6-47C2-8AFE-08EFE47A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C4325-BDB2-432E-AAF6-CC9CAFA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2281-F38A-45BE-9266-021E44AB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00AD-8173-4873-92A3-0EBFBDA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143-2759-4FBE-AF9F-324FF0F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F12D-89AD-4D92-B5F2-9894C731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A637-E462-4C5D-8F9E-866A26CB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531E-DAA8-4245-BE85-7F8712B7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F9B82-3A3C-47BA-86C9-EE79878F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6C228-9BA4-4517-B10A-43462A29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D8D7-84DF-4922-A043-9C64A709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26F1B-ABE9-4F4A-AD99-3452222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46AE5-C207-4612-89F9-A1F07871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C7AA-74E0-4591-90F8-359167A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7209-B7B3-4AA0-8E2C-FE92A8E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8D0-A77B-441C-B231-0113555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606E3-F80F-4B2B-8DC9-BAA82EF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7226-4ECB-48F8-B0B9-804AEBE0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A4D2-DFDD-4568-8F5A-03E9F87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D7DC-87D3-4507-AC34-A5BCA8BE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6E1C-35C4-42B1-982D-4CC05BE1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D369-98EA-4712-B26E-96DDC8BB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FF62-ECAB-4DD4-A8B0-E1FFE97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CA1D-03FA-44C2-A656-F9C30B1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DB3F8-DF61-437F-9705-8DA82C8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E7328-C1A9-4B42-98CB-7EA5C36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2F2-985C-4D29-8DC9-4EA54590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5F3F1-E095-4F83-B28B-C3386CB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1CED-F2C4-43B0-B1D9-CC45B66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85BDA-466D-4141-A8B8-30FEF23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48CA9-0557-4F8D-9B98-3FDFF10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A970-4531-4251-9C1E-540803B6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3464-F691-4B39-BA86-265B0352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68E8F-AF76-4A8B-AD93-BE34A7A8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A4544-48FA-41F0-9362-27AF7395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86A2A-574C-457D-9A8B-BC632916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1147D-7A2D-4360-B9CC-262A583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5FF-FB1F-4C96-ADE3-86E0719D2A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E999-64ED-4C18-A872-51428F3292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640A-3FB6-4AED-9FCE-9608737F1B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6CBC-9314-4996-B54F-0D787FA5F5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DAE-A729-4083-B7E3-E679C2AB4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E58-5BFE-4B31-96ED-82E28E25E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89E3-E9FD-45A3-A969-66C7CB737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2B97-57F4-4DCF-8008-E8F6D4F63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257-B426-479A-94EA-F458ABE3F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DA0-72A3-401E-9F27-63D6E48ED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7046-027B-4C58-9699-69BEB4BB6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ADB-4E1E-4FF1-90F9-9D5E5AB82C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BE3-B1E3-4CE0-AA90-923D7DC8A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5FE5-9BB7-4E35-A5B4-58D02BDB2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F24A-2E2E-4AEC-8FF5-CEE19FE203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7D2-C737-4A01-9E6E-A48DF53195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793-6125-40F6-AA20-3FFB8C1C7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632-664E-4633-A07F-EDDFCE017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C19-A0AA-4781-B30D-60BD07F0E0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8BD-5938-47E9-AD52-6CDC0C5FF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D5A-8DFB-4941-9064-89A705A8E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DB7B-45A7-4AF0-B183-84B6AFB03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3E65-85FB-4552-9667-46811881CA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4EA-F013-465F-A792-F668102D13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84E6-BC72-44C0-BCE1-BC9111B01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D6C-14A7-467F-81FD-A4BBED75B1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DB0-8004-438E-90A2-A094E9AB67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0B3B-A11A-4D9F-B23A-D7D9EA4DF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1F3-550E-43B3-A5A2-23CEB3A61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97A-DADB-4149-9792-52A871E13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E67-60AF-40A1-8DED-1841B2E83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68E7-4FC7-4CE6-BA80-3F5F4C43E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1744-3D4D-4C75-8CE2-C15FF26FB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0A4-4E0D-47A6-AC44-B461D0DCE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2D3-9F44-42AC-8F94-595E800A2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892-A7EE-49FE-ADBB-2160C54E6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4F4-536F-4694-9FCE-D42349A85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7CC-0D94-49CF-84D3-CF90F537C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495-0A69-4602-8004-76A4962BF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509E-204B-4459-B531-CE0CFD0992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85960" y="3181320"/>
            <a:ext cx="3772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7040" y="804960"/>
            <a:ext cx="8629920" cy="5648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042920" y="20588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0760" y="2060640"/>
            <a:ext cx="163800" cy="191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609560" y="2593800"/>
            <a:ext cx="163800" cy="192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16360" y="1960560"/>
            <a:ext cx="163440" cy="192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770280" y="2584440"/>
            <a:ext cx="163440" cy="192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19520" y="1960560"/>
            <a:ext cx="163440" cy="1922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651640" y="2593800"/>
            <a:ext cx="163440" cy="192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497640" y="2224080"/>
            <a:ext cx="163440" cy="192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667640" y="1820880"/>
            <a:ext cx="720720" cy="210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9" descr=""/>
          <p:cNvPicPr/>
          <p:nvPr/>
        </p:nvPicPr>
        <p:blipFill>
          <a:blip r:embed="rId11"/>
          <a:stretch/>
        </p:blipFill>
        <p:spPr>
          <a:xfrm>
            <a:off x="684360" y="3284640"/>
            <a:ext cx="7296120" cy="3209760"/>
          </a:xfrm>
          <a:prstGeom prst="rect">
            <a:avLst/>
          </a:prstGeom>
          <a:ln w="0">
            <a:noFill/>
          </a:ln>
        </p:spPr>
      </p:pic>
      <p:sp>
        <p:nvSpPr>
          <p:cNvPr id="933" name="椭圆 60440"/>
          <p:cNvSpPr/>
          <p:nvPr/>
        </p:nvSpPr>
        <p:spPr>
          <a:xfrm>
            <a:off x="2959200" y="4897440"/>
            <a:ext cx="431640" cy="431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椭圆 60441"/>
          <p:cNvSpPr/>
          <p:nvPr/>
        </p:nvSpPr>
        <p:spPr>
          <a:xfrm>
            <a:off x="2959200" y="5919840"/>
            <a:ext cx="431640" cy="431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60442"/>
          <p:cNvSpPr/>
          <p:nvPr/>
        </p:nvSpPr>
        <p:spPr>
          <a:xfrm>
            <a:off x="4427640" y="4869000"/>
            <a:ext cx="431640" cy="431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椭圆 60443"/>
          <p:cNvSpPr/>
          <p:nvPr/>
        </p:nvSpPr>
        <p:spPr>
          <a:xfrm>
            <a:off x="4427640" y="5891040"/>
            <a:ext cx="431640" cy="432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60444"/>
          <p:cNvSpPr/>
          <p:nvPr/>
        </p:nvSpPr>
        <p:spPr>
          <a:xfrm>
            <a:off x="6443640" y="4883040"/>
            <a:ext cx="432000" cy="432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椭圆 60445"/>
          <p:cNvSpPr/>
          <p:nvPr/>
        </p:nvSpPr>
        <p:spPr>
          <a:xfrm>
            <a:off x="6443640" y="5905440"/>
            <a:ext cx="432000" cy="432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9410" descr=""/>
          <p:cNvPicPr/>
          <p:nvPr/>
        </p:nvPicPr>
        <p:blipFill>
          <a:blip r:embed="rId1"/>
          <a:stretch/>
        </p:blipFill>
        <p:spPr>
          <a:xfrm>
            <a:off x="609480" y="806400"/>
            <a:ext cx="7925040" cy="5791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3203640" y="3573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971640" y="5892840"/>
            <a:ext cx="482436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971640" y="6251400"/>
            <a:ext cx="4824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1:4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